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935-8216-4304-8ED8-90C3650E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702F-FA33-4808-815B-4584D765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DCF1-DC22-4106-BA42-A68492B5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0DAB-58BB-4274-93C7-9E07831B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74F-3EEA-4B79-B5F3-BD1A6640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1F0-5479-4254-8F43-90BEF603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ADC4-D0F9-4C54-9D4D-37A26E97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155-22A8-4EA7-A41C-20DFBDB8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CBD8-428F-4239-8B45-C598C017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5C1-81AE-4008-89EB-213A0668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2CD-AB16-4638-A6C2-9A9ACA6C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4D4-A44A-49C1-9EB5-F48C8C16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AD0E-55D7-4859-91DE-FDDBD822B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746520" y="0"/>
            <a:ext cx="5397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304920"/>
            <a:ext cx="3048120" cy="12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ربّي جسدُكَ مأكلٌ حقاً   ربي دمُكَ مشربٌ حق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طوبي لمَن يرتوي منهم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0"/>
            <a:ext cx="2895480" cy="10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cc"/>
                </a:solidFill>
                <a:latin typeface="Arial"/>
              </a:rPr>
              <a:t>قالَ الربُ</a:t>
            </a:r>
            <a:r>
              <a:rPr b="1" i="1" lang="en-US" sz="5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ar-SA" sz="5400" spc="-1" strike="noStrike">
                <a:solidFill>
                  <a:srgbClr val="ffffcc"/>
                </a:solidFill>
                <a:latin typeface="Arial"/>
              </a:rPr>
              <a:t> أنا الكرمه   أنتم أغصانُ الكرم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cc"/>
                </a:solidFill>
                <a:latin typeface="Arial"/>
              </a:rPr>
              <a:t>كالأغصانِ اثبتوا فيَّ   تأتوا بثماٍر جمَّه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46520" y="0"/>
            <a:ext cx="5397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04920"/>
            <a:ext cx="3048120" cy="12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ربّي جسدُكَ مأكلٌ حقاً   ربي دمُكَ مشربٌ حق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طوبي لمَن يرتوي منهم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0"/>
            <a:ext cx="2743200" cy="13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00"/>
                </a:solidFill>
                <a:latin typeface="Arial"/>
              </a:rPr>
              <a:t>مثلَ الهائمِ في الصحراء   يبحثُ عن قطراتِ الما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00"/>
                </a:solidFill>
                <a:latin typeface="Arial"/>
              </a:rPr>
              <a:t>هكذا يلْهَفُ قلبي إليكْ   أنتَ الهدايةُ أنت الرجاء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746520" y="0"/>
            <a:ext cx="5397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304920"/>
            <a:ext cx="3048120" cy="12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ربّي جسدُكَ مأكلٌ حقاً   ربي دمُكَ مشربٌ حق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طوبي لمَن يرتوي منهم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0"/>
            <a:ext cx="3048120" cy="10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cc"/>
                </a:solidFill>
                <a:latin typeface="Arial"/>
              </a:rPr>
              <a:t>مَن يأكل من خُبزِ الله   </a:t>
            </a:r>
            <a:r>
              <a:rPr b="1" i="1" lang="en-US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ar-SA" sz="4800" spc="-1" strike="noStrike">
                <a:solidFill>
                  <a:srgbClr val="ffffcc"/>
                </a:solidFill>
                <a:latin typeface="Arial"/>
              </a:rPr>
              <a:t> مَن يشرب من خمرِ ال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cc"/>
                </a:solidFill>
                <a:latin typeface="Arial"/>
              </a:rPr>
              <a:t>يرِثِ  الحياةَ الأبدية     يُعطى السعادةَ في دُنيا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46520" y="0"/>
            <a:ext cx="53974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304920"/>
            <a:ext cx="3048120" cy="12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ربّي جسدُكَ مأكلٌ حقاً   ربي دمُكَ مشربٌ حق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طوبي لمَن يرتوي منهم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12:22:58Z</dcterms:created>
  <dc:creator>HANI SAFI</dc:creator>
  <dc:description/>
  <dc:language>en-US</dc:language>
  <cp:lastModifiedBy>HANI SAFI</cp:lastModifiedBy>
  <dcterms:modified xsi:type="dcterms:W3CDTF">2003-05-18T13:01:41Z</dcterms:modified>
  <cp:revision>1</cp:revision>
  <dc:subject/>
  <dc:title>Slide 1</dc:title>
</cp:coreProperties>
</file>